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1DE6-E0A3-48A2-B828-D04F29695D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82E2-540B-49E2-BC4F-67B8A76C14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6290-EBD1-4992-9953-6CAF543A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9BF5-F12E-450F-9B7B-8129C27C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DC0B-BD96-4A33-BF53-8EE894539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A2B5-982F-4875-9D1A-9C36CE32E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1F9A-02D7-454B-9879-F7692FE3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3409-D9FB-48C1-A68F-1FD23333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F5F5-20C8-446D-835C-256E40C5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10CA-7FB7-43CD-8E60-CD5C0847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41DA-7F9A-41E2-AE94-F0559979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E2DD-9CEA-44BB-94FD-96A5CA24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54B9-55FD-4734-A31D-B1EE0DB7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7A7D-98AF-46C6-97D6-973325A6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6595-4A2D-408D-9D6B-748EDBAE7D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54CB-0792-4E9E-B13D-225C0BD556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314280" y="1476360"/>
          <a:ext cx="8829720" cy="530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476360"/>
                    <a:ext cx="8829720" cy="53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муниципального долга на 1 июня 202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998C-3154-4894-9E4A-40911A7431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июня 2024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RePack by Diakov</cp:lastModifiedBy>
  <cp:lastPrinted>2020-01-10T05:43:34Z</cp:lastPrinted>
  <dcterms:modified xsi:type="dcterms:W3CDTF">2024-06-03T06:28:45Z</dcterms:modified>
  <cp:revision>169</cp:revision>
  <dc:subject/>
  <dc:title>Презентация PowerPoint</dc:title>
</cp:coreProperties>
</file>